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46.jpeg" ContentType="image/jpeg"/>
  <Override PartName="/ppt/media/image45.jpeg" ContentType="image/jpeg"/>
  <Override PartName="/ppt/media/image43.gif" ContentType="image/gif"/>
  <Override PartName="/ppt/media/image41.jpeg" ContentType="image/jpeg"/>
  <Override PartName="/ppt/media/image39.jpeg" ContentType="image/jpeg"/>
  <Override PartName="/ppt/media/image38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36.jpeg" ContentType="image/jpeg"/>
  <Override PartName="/ppt/media/image4.wmf" ContentType="image/x-wmf"/>
  <Override PartName="/ppt/media/image1.jpeg" ContentType="image/jpeg"/>
  <Override PartName="/ppt/media/image35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66.gif" ContentType="image/gif"/>
  <Override PartName="/ppt/media/image67.jpeg" ContentType="image/jpeg"/>
  <Override PartName="/ppt/media/image47.jpeg" ContentType="image/jpeg"/>
  <Override PartName="/ppt/media/image65.gif" ContentType="image/gif"/>
  <Override PartName="/ppt/media/image64.jpeg" ContentType="image/jpeg"/>
  <Override PartName="/ppt/media/image63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72.jpeg" ContentType="image/jpeg"/>
  <Override PartName="/ppt/media/image11.gif" ContentType="image/gif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5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00EC-3EC0-47D8-A715-1A274F0F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A85-DD2E-4A86-9DE2-C8A52C1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555-1F68-4B3C-BC1F-437AD35D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598-1B97-4AC9-B9D8-51F4AE9C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4AF-8834-4D00-B2AE-1B98D7A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6A9-3719-4AA1-A166-BBD341BE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FD8-5BF8-43C0-9885-263ED173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667-E36D-470B-AF52-CA2A60C6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BF78-0058-49C5-9600-7902BFAE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CD1-2DA1-4B0C-9304-F14F9547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842-8CDE-4ED8-8F8A-4D1FF205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6D8-59A6-4F5C-95D4-ED2C45D7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F03B-44A0-48B5-8D1D-5BA6269C9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 Актуальные вопросы подготовки юных спортсменов в ДЮСШ, общеобразовательных учреждениях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2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 – 28 октябр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3956040"/>
            <a:ext cx="216072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67160" cy="496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297080" cy="12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учно-методическ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уристический слёт - одно из направлений спортивно-оздоровительной работы в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витие учащимся интереса к занятиям физической культурой и спор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совместного досуга учителей, учащихся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Подготовка детей к участию в соревнованиях различ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езультаты внед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крепление здоровь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Повышение показателей физическ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Регулярное выступление учащихся в соревнова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18240" y="333360"/>
            <a:ext cx="162576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03800" cy="47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433680" cy="475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367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Рефера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31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52728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52764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529080" cy="23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55840" y="13644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Этапы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449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Параллельные верёв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623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Мышелов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3480" y="6237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Установка палат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1052640"/>
            <a:ext cx="7921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773000"/>
            <a:ext cx="4824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На педагогическом совете школы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Конфликты-реалии сегодняшне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1.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Проведение туристических слётов в условиях общеобразовательно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2.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33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очная деятельно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417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бщающий открытый у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овершенствование техники ведения, передачи и приёма мяча в баскетб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О, РМЭ, 26.10.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3440" cy="21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456000" cy="2219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3303"/>
                </a:solidFill>
                <a:latin typeface="Times New Roman"/>
              </a:rPr>
              <a:t>Моменты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7344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16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20640"/>
            <a:ext cx="820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сно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292640"/>
            <a:ext cx="604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ыпускник-2007»- спортивный конкурс с применением М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МО учителей физ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2.06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1640" cy="22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313440" cy="220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1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3080" cy="2306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0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езультативность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48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2205000"/>
            <a:ext cx="72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Средний балл экзамена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55040" y="260280"/>
            <a:ext cx="11602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Средний балл обучен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662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3-06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4,57 б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232000" cy="19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Головина Ю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ая олимпиада школьников по 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Гимнастика»-4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Теоретическое тестирование»-6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720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Футб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Лаптев Дмит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ен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зы клуб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Кожаный мяч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2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367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партак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4102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ыбак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3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дской легкоатлетический кро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81320" cy="43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2370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зюдо – Иванов Дени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1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484280"/>
            <a:ext cx="882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Кубке РМЭ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место на призы Администрации г. Волжска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зачё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летней спартакиады, 50 кг, 2005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зюдо – Пашковский Ди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03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СДЮШОР по дзю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4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чало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349360"/>
            <a:ext cx="214200" cy="358920"/>
          </a:xfrm>
          <a:prstGeom prst="upArrow">
            <a:avLst>
              <a:gd name="adj1" fmla="val 50000"/>
              <a:gd name="adj2" fmla="val 418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Туриз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341360"/>
            <a:ext cx="88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1 место в первенстве ФСТ РМЭ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3 место в первенстве г. Йошкар-Олы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1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ванова Екатерина, 2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1828800" cy="266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06760" y="3141720"/>
            <a:ext cx="182088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787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84720" cy="23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673440" cy="238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3598920" cy="23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сероссийский кросс наций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4360" y="765000"/>
            <a:ext cx="79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935000" cy="193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частие в художественной само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72120" cy="207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92840" y="1981080"/>
            <a:ext cx="332424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3313440" cy="21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24036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бота в социальном прию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93920" cy="221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4114800"/>
            <a:ext cx="3384720" cy="21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103720" y="4114800"/>
            <a:ext cx="328464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2349360"/>
            <a:ext cx="1371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есноков Александр Серге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21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1981 год Факультет физ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«Учитель физ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2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29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4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2087640" cy="14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127320" cy="446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240360" cy="28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лексная программа Министерства образования Российской Федерации «Физическое воспитание учащихся 1-11 класс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сква, «Просвещение», 1996,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рограмма и уроки по физическому воспит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Йошкар-Ола, МИО, 1997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49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плом  Комитета по физической культуре и спорту Администр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. Йошкар-Олы за большой вклад в развитие физической культуры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3988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575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14T07:30:08Z</dcterms:modified>
  <cp:revision>74</cp:revision>
  <dc:subject/>
  <dc:title>Федерация интернет Образования</dc:title>
</cp:coreProperties>
</file>